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4.wmf" ContentType="image/x-wmf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2903-B0EB-481F-B7DE-61E5A75B8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5C50-0069-4288-8624-0A102604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EA90-85A2-4EB9-BC59-7DE0CAE86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D067-D573-4270-B91D-EF0DC30A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4DB1-86FC-439A-BECC-6DD95FF9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73E1-27C2-4764-B3F5-B3430CCA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9807-8322-447B-89D6-25F5A9AD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C544-7AB3-44EC-91D4-65FFF351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0DFC-124E-41A9-A198-DE645D3E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8BCC-498A-4E2C-BF85-F549103F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AB31-3871-45F7-9DAF-A11C8AAB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64AF-E2AD-4CE0-8167-0251058C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4379-EA72-4626-8B24-615A6B940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4000" y="549360"/>
            <a:ext cx="504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شعار المعارف" descr=""/>
          <p:cNvPicPr/>
          <p:nvPr/>
        </p:nvPicPr>
        <p:blipFill>
          <a:blip r:embed="rId2"/>
          <a:stretch/>
        </p:blipFill>
        <p:spPr>
          <a:xfrm>
            <a:off x="3708360" y="907920"/>
            <a:ext cx="148608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6227640" y="692280"/>
          <a:ext cx="1860840" cy="106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7640" y="692280"/>
                    <a:ext cx="186084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BISM1" descr=""/>
          <p:cNvPicPr/>
          <p:nvPr/>
        </p:nvPicPr>
        <p:blipFill>
          <a:blip r:embed="rId5"/>
          <a:stretch/>
        </p:blipFill>
        <p:spPr>
          <a:xfrm>
            <a:off x="3635280" y="404640"/>
            <a:ext cx="1486080" cy="406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92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2640" rIns="1142640" tIns="-913680" bIns="-11376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8160" y="12679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289260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Arial"/>
                <a:cs typeface="Bader"/>
              </a:rPr>
              <a:t>خطوات التسجيل في اختبار القدرات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0920" y="4149720"/>
            <a:ext cx="4897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  <a:cs typeface="Monotype Koufi"/>
              </a:rPr>
              <a:t>إعدا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  <a:cs typeface="Monotype Koufi"/>
              </a:rPr>
              <a:t>أخوك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  <a:cs typeface="Monotype Koufi"/>
              </a:rPr>
              <a:t>طارق السنحان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2200" y="260280"/>
            <a:ext cx="8821800" cy="5977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340000" y="105264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هنا سيظهر اسم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7640" y="1557360"/>
            <a:ext cx="64908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19640" y="2286000"/>
            <a:ext cx="31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أكد هنا إذا الاسم صحي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6588000" y="2420640"/>
            <a:ext cx="107964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371628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ختر الجنس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67360" y="4005360"/>
            <a:ext cx="503280" cy="144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79640" y="4314960"/>
            <a:ext cx="33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ختر ثانوي  ثم حدد الص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03640" y="4797360"/>
            <a:ext cx="136692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63640" y="6018120"/>
            <a:ext cx="43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حدد التخصص إما علمي أو نظر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084720" y="6021360"/>
            <a:ext cx="144000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59280" y="2205000"/>
            <a:ext cx="433080" cy="503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0360" y="364500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47640" y="429264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609300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8280360" cy="5619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219640" y="189000"/>
            <a:ext cx="33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 u="sng">
                <a:solidFill>
                  <a:srgbClr val="ff0000"/>
                </a:solidFill>
                <a:uFillTx/>
                <a:latin typeface="Arial"/>
                <a:cs typeface="SKR HEAD1"/>
              </a:rPr>
              <a:t>تابع إدخال البيانات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451640" y="4005360"/>
            <a:ext cx="1152720" cy="57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93080" y="325440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اختر القسم  التعليمي حسب تخصص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524720" y="5734080"/>
            <a:ext cx="503280" cy="358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59640" y="2779560"/>
            <a:ext cx="57636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101080" y="522936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40"/>
                            </p:stCondLst>
                            <p:childTnLst>
                              <p:par>
                                <p:cTn id="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209080" cy="5388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771640" y="3284640"/>
            <a:ext cx="28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كتب هنا اسم مدرست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19640" y="3716280"/>
            <a:ext cx="216000" cy="433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08720" y="3357720"/>
            <a:ext cx="57600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227280" y="4149720"/>
            <a:ext cx="1008360" cy="14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4360" y="3860640"/>
            <a:ext cx="57636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00720" y="405612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SKR HEAD1"/>
              </a:rPr>
              <a:t>مجمع الأمير محم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8496000" cy="5256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492360" y="189000"/>
            <a:ext cx="49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 u="sng">
                <a:solidFill>
                  <a:srgbClr val="000000"/>
                </a:solidFill>
                <a:uFillTx/>
                <a:latin typeface="Arial"/>
                <a:cs typeface="SKR HEAD1"/>
              </a:rPr>
              <a:t>نتيجة البحث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45080" y="551664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اضغط على اختيار سينقلك لصفحة تجد اختيارك قد تظلل باللون البرتقال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7740360" y="5373720"/>
            <a:ext cx="64764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064360" cy="6050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flipH="1" flipV="1">
            <a:off x="5219640" y="5733720"/>
            <a:ext cx="1152720" cy="142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12000" y="5516640"/>
            <a:ext cx="288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SKR HEAD1"/>
              </a:rPr>
              <a:t>اضغط موافق للعودة                 لإكمال إدخال البيان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8569440" cy="6291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55640" y="105264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لا حظ تم إضافة اسم مدرستك هن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148360" y="907560"/>
            <a:ext cx="151128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16360" y="1989000"/>
            <a:ext cx="57600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1628640"/>
            <a:ext cx="266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أدخل سنة التخرج                         الصف الثالث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1430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                        الصف الثاني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143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6000" y="2349360"/>
            <a:ext cx="1655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328464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05080" y="3068640"/>
            <a:ext cx="251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أدخل رقم جوال لتصلك رسالة تأكيد التسجي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24360" y="3500280"/>
            <a:ext cx="2016000" cy="2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4365720"/>
            <a:ext cx="57600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87280" y="4221000"/>
            <a:ext cx="19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أدخل رقم   هاتف ثابت ولا تنسى كتابة مفتاح المدينة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203640" y="4437000"/>
            <a:ext cx="259236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203640" y="4437000"/>
            <a:ext cx="410508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5445000"/>
            <a:ext cx="187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ليس مهم إدخال بريد الكترون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680"/>
                            </p:stCondLst>
                            <p:childTnLst>
                              <p:par>
                                <p:cTn id="4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348000" y="40464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 u="sng">
                <a:solidFill>
                  <a:srgbClr val="000000"/>
                </a:solidFill>
                <a:uFillTx/>
                <a:latin typeface="Arial"/>
                <a:cs typeface="SKR HEAD1"/>
              </a:rPr>
              <a:t>تابع إدخال البيانات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7667640" cy="4464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24000" y="620640"/>
            <a:ext cx="41767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خاص ببعض الطلا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SKR HEAD1"/>
              </a:rPr>
              <a:t>إن كنت تكتب بيدك اليسرى                                                                فاختر كرسي بمستند كتابة أيسر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40360" y="1628640"/>
            <a:ext cx="3168360" cy="1368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4437000"/>
            <a:ext cx="295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تم الانتهاء                                        من ادخال البيانات اضغط  للانتقال لصفحة                   الإقرار بصحة البيان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000760" y="5084640"/>
            <a:ext cx="1008000" cy="14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280"/>
                            </p:stCondLst>
                            <p:childTnLst>
                              <p:par>
                                <p:cTn id="4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5977080" cy="6121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46920" y="476280"/>
            <a:ext cx="3097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هذه صفحة تأكيد البيان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تأكد من أن جميع البيانات  صحيح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2000" y="2708280"/>
            <a:ext cx="29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84720" y="2637000"/>
            <a:ext cx="266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Arial"/>
                <a:cs typeface="SKR HEAD1"/>
              </a:rPr>
              <a:t>لا حظ أن اسم المدرسة لم يظهر هنا وسنشرح لاحقاً كيف نجعل اسم المدرسة يظهر معنا ضمن البيانات  لمن لم يظهر معا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292360" y="3141720"/>
            <a:ext cx="93492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0153400">
            <a:off x="5640120" y="4327920"/>
            <a:ext cx="367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8000"/>
                </a:solidFill>
                <a:latin typeface="Arial"/>
                <a:cs typeface="SKR HEAD1"/>
              </a:rPr>
              <a:t>إذا كانت البيانات صحيحة فاضغط  للحصول على رقم المشتر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787640" y="5373720"/>
            <a:ext cx="863640" cy="43164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 rot="12846000">
            <a:off x="-427680" y="5412960"/>
            <a:ext cx="349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إذا كانت البيانات تحتاج لتعديل اضغ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059280" y="6237360"/>
            <a:ext cx="865080" cy="287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800"/>
                            </p:stCondLst>
                            <p:childTnLst>
                              <p:par>
                                <p:cTn id="5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240"/>
                            </p:stCondLst>
                            <p:childTnLst>
                              <p:par>
                                <p:cTn id="5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280360" cy="5543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80000" y="4076640"/>
            <a:ext cx="129672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21450000">
            <a:off x="712080" y="4075920"/>
            <a:ext cx="259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  <a:cs typeface="SKR HEAD1"/>
              </a:rPr>
              <a:t>هذا رقم اشتراكك                     من المهم الاحتفاظ ب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987640" y="4292640"/>
            <a:ext cx="79236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67640" y="3284640"/>
            <a:ext cx="23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قد تكون العبارة التي في الأعلى مقلقة للبعض من عدم اتمام فتح الملف                 لكن اضغط هن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215040" y="4724280"/>
            <a:ext cx="100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27640" y="472428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6732720" y="2637000"/>
            <a:ext cx="1511280" cy="57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20000" y="4653000"/>
            <a:ext cx="187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لتطمئن من أنك نجحت في فتح المل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5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560"/>
                            </p:stCondLst>
                            <p:childTnLst>
                              <p:par>
                                <p:cTn id="5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60"/>
                            </p:stCondLst>
                            <p:childTnLst>
                              <p:par>
                                <p:cTn id="5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278560" cy="61311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71640" y="213372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ff"/>
                </a:solidFill>
                <a:latin typeface="Arial"/>
                <a:cs typeface="SKR HEAD1"/>
              </a:rPr>
              <a:t>مبروك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203640" y="1989000"/>
            <a:ext cx="3744720" cy="648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58920" y="44280"/>
            <a:ext cx="67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ff"/>
                </a:solidFill>
                <a:latin typeface="Arial"/>
                <a:cs typeface="SKR HEAD1"/>
              </a:rPr>
              <a:t>خطوات التسجيل لهذا العام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8000" y="1484280"/>
            <a:ext cx="79200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SKR HEAD1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84520" y="1527120"/>
            <a:ext cx="61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فتح ملف خاص بالطالب  والحصول على رقم المشتر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078760" y="3213000"/>
            <a:ext cx="792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SKR HEAD1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35280" y="320976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لتسجيل في الموعد المناس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078760" y="5013360"/>
            <a:ext cx="792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SKR HEAD1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35280" y="498780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تسديد المقابل المال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16720" y="2060640"/>
            <a:ext cx="0" cy="10810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16720" y="3787920"/>
            <a:ext cx="0" cy="10810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0133600">
            <a:off x="330120" y="4055400"/>
            <a:ext cx="5429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SKR HEAD1"/>
              </a:rPr>
              <a:t>حديثنا اليوم سيكون عن طريقة فتح الملف والحصول على رقم المشتر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24000" y="90792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ff"/>
                </a:solidFill>
                <a:latin typeface="Arial"/>
                <a:cs typeface="SKR HEAD1"/>
              </a:rPr>
              <a:t>بعد اتمام فتح الملف لا يعد هذا إنهاء عملية التسجي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87640" y="-100080"/>
            <a:ext cx="287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ff0000"/>
                </a:solidFill>
                <a:latin typeface="Arial"/>
                <a:cs typeface="SKR HEAD1"/>
              </a:rPr>
              <a:t>تنبي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321300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SKR HEAD1"/>
              </a:rPr>
              <a:t>بقي عليك خطوتين  حتى تنهي التسجيل                 خطوة تحديد الموعد   ، وخطوةتسديد المقابل المالي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4360" y="479736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SKR HEAD1"/>
              </a:rPr>
              <a:t>إلى الحصة الأولى اليوم غير متاح تحديد موعد الاختبار ، ما عليك إلا الاحتفاظ برقم المشترك والتشييك المستمر 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  <a:cs typeface="SKR HEAD1"/>
              </a:rPr>
              <a:t>على الموقع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SKR HEAD1"/>
              </a:rPr>
              <a:t>أو  الإتصال بالهاتف الموحد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ea typeface="SKR HEAD1"/>
              </a:rPr>
              <a:t>9200011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mph" presetID="2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6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42920" y="1517760"/>
            <a:ext cx="7274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0000ff"/>
                </a:solidFill>
                <a:latin typeface="Arial"/>
                <a:cs typeface="SKR HEAD1"/>
              </a:rPr>
              <a:t>مشكلة في التسجيل              قد تواجهه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71640" y="1341360"/>
            <a:ext cx="7704000" cy="3313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79280" y="404640"/>
            <a:ext cx="849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Arial"/>
                <a:cs typeface="SKR HEAD1"/>
              </a:rPr>
              <a:t>المشكلة :  عدم ظهور اسم المدرسة بعد فتح المل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1197000"/>
            <a:ext cx="849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SKR HEAD1"/>
              </a:rPr>
              <a:t>الحل : بعد اتمام عملية التسجيل الدخول مرة أخرى من بوابة التسجيل كما في الخطوات الأولى للتسجي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900000" y="2852640"/>
            <a:ext cx="7839360" cy="3672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-182520" y="3284640"/>
            <a:ext cx="25938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0000"/>
                </a:solidFill>
                <a:latin typeface="Arial"/>
                <a:cs typeface="SKR HEAD1"/>
              </a:rPr>
              <a:t>أدخل رقم                     السجل المدني                   ورقم المشترك                 الذي حصلت عليه هن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56000" y="4259160"/>
            <a:ext cx="223200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68360" y="4365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03640" y="5013360"/>
            <a:ext cx="26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اضغط تسجيل الدخو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4500720" y="4941360"/>
            <a:ext cx="792000" cy="287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619280" y="4723920"/>
            <a:ext cx="1584360" cy="1297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800"/>
                            </p:stCondLst>
                            <p:childTnLst>
                              <p:par>
                                <p:cTn id="6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300"/>
                            </p:stCondLst>
                            <p:childTnLst>
                              <p:par>
                                <p:cTn id="6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640"/>
                            </p:stCondLst>
                            <p:childTnLst>
                              <p:par>
                                <p:cTn id="6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79280" y="37944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SKR HEAD1"/>
              </a:rPr>
              <a:t>ستظهر لك هذه الصفحة وهي الصفحة الأساسية الخاصة بك في مركز القيا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7638840" cy="5134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199280" y="2421000"/>
            <a:ext cx="194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لا حظ معي عدم ظهور اسم المدرسة                       أو يظهر إما فيه خطأ أو نق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6300720" y="2781360"/>
            <a:ext cx="100800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1280" y="3213000"/>
            <a:ext cx="43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8000"/>
                </a:solidFill>
                <a:latin typeface="Arial"/>
                <a:cs typeface="SKR HEAD1"/>
              </a:rPr>
              <a:t>لحل هذه المشكلة اضغط تعديل بيان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851280" y="2852640"/>
            <a:ext cx="0" cy="43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800"/>
                            </p:stCondLst>
                            <p:childTnLst>
                              <p:par>
                                <p:cTn id="7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160"/>
                            </p:stCondLst>
                            <p:childTnLst>
                              <p:par>
                                <p:cTn id="7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635280" y="189000"/>
            <a:ext cx="49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SKR HEAD1"/>
              </a:rPr>
              <a:t>صفحة تعديل البيانات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8424720" cy="49021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79280" y="357336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لاحظ اسم المدرسة استبدل بعلامات استفها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87640" y="4076640"/>
            <a:ext cx="1368360" cy="865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19640" y="3141720"/>
            <a:ext cx="57600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80000" y="5734080"/>
            <a:ext cx="576000" cy="50472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5445000"/>
            <a:ext cx="331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8000"/>
                </a:solidFill>
                <a:latin typeface="Arial"/>
                <a:cs typeface="SKR HEAD1"/>
              </a:rPr>
              <a:t>اضغط هنا سنكرر خطوة                   البحث عن المدرسة مرة أخر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708360" y="5300280"/>
            <a:ext cx="1150920" cy="3603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400"/>
                            </p:stCondLst>
                            <p:childTnLst>
                              <p:par>
                                <p:cTn id="7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209080" cy="53881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771640" y="3284640"/>
            <a:ext cx="28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كتب هنا اسم المدر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19640" y="3716280"/>
            <a:ext cx="216000" cy="433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08720" y="3357720"/>
            <a:ext cx="57600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6227280" y="4149720"/>
            <a:ext cx="1008360" cy="14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164360" y="3860640"/>
            <a:ext cx="57636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00720" y="405612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SKR HEAD1"/>
              </a:rPr>
              <a:t>مجمع الأمير محم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8496000" cy="5256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492360" y="189000"/>
            <a:ext cx="49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 u="sng">
                <a:solidFill>
                  <a:srgbClr val="000000"/>
                </a:solidFill>
                <a:uFillTx/>
                <a:latin typeface="Arial"/>
                <a:cs typeface="SKR HEAD1"/>
              </a:rPr>
              <a:t>نتيجة البحث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45080" y="551664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اضغط على اختيار سينقلك لصفحة تجد اختيارك قد تظلل باللون البرتقال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7740360" y="5373720"/>
            <a:ext cx="64764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064360" cy="60501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 flipH="1" flipV="1">
            <a:off x="5219640" y="5733720"/>
            <a:ext cx="1152720" cy="142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12000" y="5516640"/>
            <a:ext cx="288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SKR HEAD1"/>
              </a:rPr>
              <a:t>اضغط موافق للعودة                 لصفحة تعديل البيان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8064360" cy="57596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 rot="19014000">
            <a:off x="208800" y="3490920"/>
            <a:ext cx="39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Arial"/>
                <a:cs typeface="SKR HEAD1"/>
              </a:rPr>
              <a:t>لاحظ تغير اسم المدرس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27280" y="3933720"/>
            <a:ext cx="1368360" cy="1150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424720" cy="27878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 rot="19604400">
            <a:off x="3420000" y="249192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292720" y="2491920"/>
            <a:ext cx="165564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1476360" y="3500280"/>
            <a:ext cx="5689440" cy="2824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50920" y="4941720"/>
            <a:ext cx="122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0000"/>
                </a:solidFill>
                <a:latin typeface="Arial"/>
                <a:cs typeface="SKR HEAD1"/>
              </a:rPr>
              <a:t>اختر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76360" y="5373720"/>
            <a:ext cx="2374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20494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SKR HEAD1"/>
              </a:rPr>
              <a:t>أولى الخطوات  الذهاب إلى موقع مركز القياس  إما بكتابة اسم الموقع مباشرة من النشرات المعطاة أو الذهاب لموقع البحث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www.google.com.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0920" y="549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SKR HEAD1"/>
              </a:rPr>
              <a:t>تم بحمد الله تعديل البيانات  وستظهر صفحتك الرئيسية كهذ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7639200" cy="51818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124000" y="3357720"/>
            <a:ext cx="37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لا حظ ظهور اسم المدرسة هن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435640" y="2997000"/>
            <a:ext cx="792000" cy="43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7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880"/>
                            </p:stCondLst>
                            <p:childTnLst>
                              <p:par>
                                <p:cTn id="90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0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836640"/>
            <a:ext cx="777708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ختاما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أسأل الله العلي العظيم أن ييسر لكم اختبار القدرات ويوفقكم فيه 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ولا أنسى قبل الختام أن أقدم جزيل الشكر والتقدير لزملائكم الذين منحوني الفرصة لتسجيلهم حتى أثبت خطوات التسجيل وأنقلها لكم كما شاهدتموها فلهم مني وافر التقدير والاحترا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وتقبلوا جميعاً تحيات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أخوك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طارق السنحا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SKR HEAD1"/>
              </a:rPr>
              <a:t>Tarik.505@windowsliv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208720" cy="5472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04000" y="256536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1640" y="2421000"/>
            <a:ext cx="3241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    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1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)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    </a:t>
            </a:r>
            <a:r>
              <a:rPr b="0" lang="hi-IN" sz="2000" spc="-1" strike="noStrike">
                <a:solidFill>
                  <a:srgbClr val="ff0000"/>
                </a:solidFill>
                <a:latin typeface="Arial"/>
                <a:cs typeface="SKR HEAD1"/>
              </a:rPr>
              <a:t>نكتب قياس  في خانة البحث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292720" y="2924280"/>
            <a:ext cx="1224000" cy="64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221000"/>
            <a:ext cx="2017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2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)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      </a:t>
            </a:r>
            <a:r>
              <a:rPr b="0" lang="hi-IN" sz="2000" spc="-1" strike="noStrike">
                <a:solidFill>
                  <a:srgbClr val="ff0000"/>
                </a:solidFill>
                <a:latin typeface="Arial"/>
                <a:cs typeface="SKR HEAD1"/>
              </a:rPr>
              <a:t>اضغط على بحث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979640" y="3789360"/>
            <a:ext cx="187164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8425080" cy="6192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835280" y="4292640"/>
            <a:ext cx="32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SKR HEAD1"/>
              </a:rPr>
              <a:t>اختر أول نتيجة ستظهر ل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03640" y="4724280"/>
            <a:ext cx="505080" cy="217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300"/>
                            </p:stCondLst>
                            <p:childTnLst>
                              <p:par>
                                <p:cTn id="1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850160" cy="5905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62240" y="3916440"/>
            <a:ext cx="115092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4880" y="3675240"/>
            <a:ext cx="72072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108000" y="3213000"/>
            <a:ext cx="11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403280" y="476280"/>
            <a:ext cx="7272360" cy="5977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700360" y="2205000"/>
            <a:ext cx="1152360" cy="1079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1557360"/>
            <a:ext cx="172872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052640"/>
            <a:ext cx="15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20"/>
                            </p:stCondLst>
                            <p:childTnLst>
                              <p:par>
                                <p:cTn id="1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20"/>
                            </p:stCondLst>
                            <p:childTnLst>
                              <p:par>
                                <p:cTn id="1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8675640" cy="5513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flipV="1">
            <a:off x="5724360" y="3429000"/>
            <a:ext cx="360360" cy="100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43280" y="2421000"/>
            <a:ext cx="3456000" cy="938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6680" y="4178160"/>
            <a:ext cx="20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42920" y="189000"/>
            <a:ext cx="8893080" cy="64310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50920" y="4754520"/>
            <a:ext cx="4608360" cy="22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0000"/>
                </a:solidFill>
                <a:latin typeface="Arial"/>
                <a:cs typeface="SKR HEAD1"/>
              </a:rPr>
              <a:t>بعد تعبئة هذه البيانات  اضغط هن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ستنتقل لصفحة يطلب منك إدخال عدة بيا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84720" y="5445000"/>
            <a:ext cx="237492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09:02:07Z</dcterms:created>
  <dc:creator>Stars</dc:creator>
  <dc:description/>
  <dc:language>en-US</dc:language>
  <cp:lastModifiedBy>abc</cp:lastModifiedBy>
  <dcterms:modified xsi:type="dcterms:W3CDTF">2008-12-01T20:16:31Z</dcterms:modified>
  <cp:revision>43</cp:revision>
  <dc:subject/>
  <dc:title>الشريحة 1</dc:title>
</cp:coreProperties>
</file>